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563400" y="1014120"/>
            <a:ext cx="5710320" cy="42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26920" y="5544720"/>
            <a:ext cx="518328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hdr"/>
          </p:nvPr>
        </p:nvSpPr>
        <p:spPr>
          <a:xfrm>
            <a:off x="1952640" y="164880"/>
            <a:ext cx="2930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dt" idx="3"/>
          </p:nvPr>
        </p:nvSpPr>
        <p:spPr>
          <a:xfrm>
            <a:off x="31680" y="9648720"/>
            <a:ext cx="12765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78120" y="9648720"/>
            <a:ext cx="2930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78640" y="9648720"/>
            <a:ext cx="1050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D257-1E63-4BC9-A4C9-48381396AC6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1" name="GWP%20Med-%20new%20logo" descr=""/>
          <p:cNvPicPr/>
          <p:nvPr/>
        </p:nvPicPr>
        <p:blipFill>
          <a:blip r:embed="rId2"/>
          <a:stretch/>
        </p:blipFill>
        <p:spPr>
          <a:xfrm>
            <a:off x="5334120" y="247680"/>
            <a:ext cx="127620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563400" y="1014480"/>
            <a:ext cx="5710320" cy="4282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26920" y="5544720"/>
            <a:ext cx="518328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613E-8A0C-4BA5-BF80-31F8ECF31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4707-CC85-4F55-81EC-74323280C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147C-5933-4764-9E4B-8E73BE5DE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CBE6-64B5-44AE-A705-A54F12C93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9B07-7DE1-4530-8CFD-7A5A485AC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44EE-0A25-4AD2-8A9A-3585CB25B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5D8D-46AB-4E35-9CEF-05D1B2A16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758E-94D7-49C6-839F-5828E2925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D6C5-A855-4495-9B36-D37BC2DA7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3FAD-9A07-4592-B574-E46340EDC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6023-6435-41BE-90E4-AAE9D91EB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298E-4FED-443A-AA08-F1964FCB1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E005-0CB6-4A1C-9870-9F5E78563776}" type="slidenum">
              <a:rPr b="0" lang="en-US" sz="12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9360" y="262080"/>
            <a:ext cx="810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Verdana"/>
              </a:rPr>
              <a:t>CONFÉRENCE DES DIRECTEURS DE L’EAU DES PAYS EURO-MEDITERRANÉENS ET DE L’EUROPE DU SUD-EST</a:t>
            </a: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, ATHENES, 6-7 NOVEMBRE 200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795240"/>
            <a:ext cx="7696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57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Verdana"/>
              </a:rPr>
              <a:t>CONFÉRENCE DES DIRECTEURS DE L’EAU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Verdana"/>
              </a:rPr>
              <a:t>DES PAYS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Verdana"/>
              </a:rPr>
              <a:t>EURO-MEDITERRANÉE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Verdana"/>
              </a:rPr>
              <a:t>ET DE L’EUROPE DU SUD-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49975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Verdana"/>
              </a:rPr>
              <a:t>Athènes, les 6 &amp; 7 novembre 200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42840" y="5597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05240" y="5670720"/>
            <a:ext cx="1143000" cy="380880"/>
          </a:xfrm>
          <a:prstGeom prst="rect">
            <a:avLst/>
          </a:prstGeom>
          <a:ln w="0">
            <a:noFill/>
          </a:ln>
        </p:spPr>
      </p:pic>
      <p:pic>
        <p:nvPicPr>
          <p:cNvPr id="55" name="top.ht2" descr=""/>
          <p:cNvPicPr/>
          <p:nvPr/>
        </p:nvPicPr>
        <p:blipFill>
          <a:blip r:embed="rId4"/>
          <a:stretch/>
        </p:blipFill>
        <p:spPr>
          <a:xfrm>
            <a:off x="2165400" y="5673600"/>
            <a:ext cx="59688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057640" y="5681520"/>
            <a:ext cx="571680" cy="51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210360" y="5648400"/>
            <a:ext cx="587160" cy="52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454880" y="5676840"/>
            <a:ext cx="81612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486400"/>
            <a:ext cx="85341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680" y="6203880"/>
            <a:ext cx="133344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Gouvernement Helléniqu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99"/>
                </a:solidFill>
                <a:latin typeface="Verdana"/>
              </a:rPr>
              <a:t>Ministère de l’Environnemen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99"/>
                </a:solidFill>
                <a:latin typeface="Verdana"/>
              </a:rPr>
              <a:t>Ministère des Affaires Etrangères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6084720"/>
            <a:ext cx="91440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Commission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de l’U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99"/>
                </a:solidFill>
                <a:latin typeface="Verdana"/>
              </a:rPr>
              <a:t>DG Environnemen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333399"/>
                </a:solidFill>
                <a:latin typeface="Verdana"/>
              </a:rPr>
              <a:t>DG AidCo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4680" y="6110280"/>
            <a:ext cx="1262160" cy="5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Composante Méditerranéenne de l’Initiative de l’UE pour l’Eau Commission de l’U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7920" y="6280200"/>
            <a:ext cx="12952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Partenariat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Euro- Méditerranée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23080" y="6168960"/>
            <a:ext cx="114300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Système Euro- Méditerranéen d’Information sur les savoir-faire dans le domaine de l’Eau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07280" y="6213600"/>
            <a:ext cx="1104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333399"/>
                </a:solidFill>
                <a:latin typeface="Verdana"/>
              </a:rPr>
              <a:t>Unité Régionale de Suivi et de Soutien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99"/>
                </a:solidFill>
                <a:latin typeface="Verdana"/>
              </a:rPr>
              <a:t>Programme MEDA-Eau 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77777"/>
                </a:solidFill>
                <a:latin typeface="Verdana"/>
              </a:rPr>
              <a:t>Titre de la Présentation</a:t>
            </a:r>
            <a:br>
              <a:rPr sz="2400"/>
            </a:br>
            <a:r>
              <a:rPr b="0" lang="fr-FR" sz="2400" spc="-1" strike="noStrike">
                <a:solidFill>
                  <a:srgbClr val="777777"/>
                </a:solidFill>
                <a:latin typeface="Verdana"/>
              </a:rPr>
              <a:t>Sous-tit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85640" y="3123720"/>
            <a:ext cx="434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&lt;votre 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&lt;votre tit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&lt;votre organisation/institution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11480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Verdana"/>
              </a:rPr>
              <a:t>Vous pouvez également insérer le logo de votre organisation ici, si vous le souhaitez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6983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Index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19520" y="5334120"/>
            <a:ext cx="5835600" cy="1143000"/>
            <a:chOff x="2819520" y="5334120"/>
            <a:chExt cx="5835600" cy="1143000"/>
          </a:xfrm>
        </p:grpSpPr>
        <p:sp>
          <p:nvSpPr>
            <p:cNvPr id="117" name=""/>
            <p:cNvSpPr/>
            <p:nvPr/>
          </p:nvSpPr>
          <p:spPr>
            <a:xfrm>
              <a:off x="4192560" y="5334120"/>
              <a:ext cx="4462560" cy="105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777777"/>
              </a:solidFill>
              <a:miter/>
            </a:ln>
            <a:effectLst>
              <a:outerShdw dist="17819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Changer le bas de page pour faire apparaître votre nom et votre organisation </a:t>
              </a:r>
              <a:r>
                <a:rPr b="0" lang="fr-FR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(dans le</a:t>
              </a: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 menu “Vue”, choisissez “En-tête &amp; Bas de page ” pour insérer cette information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19520" y="5772240"/>
              <a:ext cx="1379520" cy="704880"/>
            </a:xfrm>
            <a:prstGeom prst="line">
              <a:avLst/>
            </a:prstGeom>
            <a:ln w="12600">
              <a:solidFill>
                <a:srgbClr val="99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1040" bIns="41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990720"/>
            <a:ext cx="8076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Structure </a:t>
            </a:r>
            <a:r>
              <a:rPr b="0" lang="fr-FR" sz="3200" spc="-1" strike="noStrike">
                <a:solidFill>
                  <a:srgbClr val="777777"/>
                </a:solidFill>
                <a:latin typeface="Verdana"/>
              </a:rPr>
              <a:t>Recommandé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276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ue d’ensemble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Verdana"/>
              </a:rPr>
              <a:t>Thèmes de la présen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157560"/>
            <a:ext cx="2819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Thème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Thème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Thèm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…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&lt;logo de votre organisation&gt;, &lt;nom de votre organisation&gt;, de &lt;votre nom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8F5E-E010-41A0-B704-46F27D545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1560" y="990360"/>
            <a:ext cx="820260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77777"/>
                </a:solidFill>
                <a:latin typeface="Verdana"/>
              </a:rPr>
              <a:t>Format Recommandé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752120"/>
            <a:ext cx="8467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66"/>
                </a:solidFill>
                <a:uFillTx/>
                <a:latin typeface="Verdana"/>
              </a:rPr>
              <a:t>Caractères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: Utilisez de préférence des caractères «sans serif», comme Verdana, Arial ou Helvet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66"/>
                </a:solidFill>
                <a:uFillTx/>
                <a:latin typeface="Verdana"/>
              </a:rPr>
              <a:t>Tailles des caractères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Verdana"/>
              </a:rPr>
              <a:t>Titres des pages: 32 point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Verdana"/>
              </a:rPr>
              <a:t>Sous-titres: 26 - 28 points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Paragraphes 3eme niveau: 24 - 26 poi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Paragraphes 4eme niveau: 20 - 24 poin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66"/>
                </a:solidFill>
                <a:uFillTx/>
                <a:latin typeface="Verdana"/>
              </a:rPr>
              <a:t>Couleurs de caractères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77777"/>
                </a:solidFill>
                <a:latin typeface="Verdana"/>
              </a:rPr>
              <a:t>Gris</a:t>
            </a: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777777"/>
                </a:solidFill>
                <a:latin typeface="Verdana"/>
              </a:rPr>
              <a:t>pour les titres des pag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Bleu foncé pour le texte princip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&lt;logo de votre organisation&gt;, &lt;nom de votre organisation&gt;, de &lt;votre nom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C5DF-7850-44C0-8ECE-5156D8E81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1697040"/>
            <a:ext cx="563868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Verdana"/>
              </a:rPr>
              <a:t>Contac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Nom de l’orateur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Nom de l’organisatio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Adresse complète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Tel: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Fax:&gt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Email: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&lt;Site web: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&lt;logo de votre organisation&gt;, &lt;nom de votre organisation&gt;, de &lt;votre nom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0A01-F3DF-43A9-8591-3336D8458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Spyros</cp:lastModifiedBy>
  <cp:lastPrinted>2002-01-29T09:36:43Z</cp:lastPrinted>
  <dcterms:modified xsi:type="dcterms:W3CDTF">2006-09-04T11:55:26Z</dcterms:modified>
  <cp:revision>31</cp:revision>
  <dc:subject/>
  <dc:title>Paper and Tutorial Presentation Template and Information</dc:title>
</cp:coreProperties>
</file>